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4468-A681-4C4C-A794-B75904E6A1E8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CAF7-417C-4684-B6B9-EB5C12D93B3C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276E-D4D4-4A3A-9858-810087454E2B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01400" y="299880"/>
            <a:ext cx="77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Preservation Strategies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What do long-term archives do with my data?; Version 1.0, Reviewed xx/xx/xxxx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Preservation Strategie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What do long-term archives do with my data?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Jeff Arnfiel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OAA’s National Climatic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long term archive’s primary goal is “to protect and serve” by ensuring that its data holdings, include the metadata necessary for discovery and interpretation, remain intact, available and usabl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nsuring the long term integrity and viability of data is an active, ongoing process.  A long term archive manages the details for you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efine roles and responsibiliti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archives work with data submitters to concisely define their respective expectations and responsibilities for the body of data to be archived.  Such an accord is often documented in a submission agreement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archive’s requirements for data format, content and packaging are clearly enumerated. The archive will also require the metadata necessary to characterize, read, advertise and properly interpret  your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imitations on the data’s distribution and use are explicitly spelled out in these submission agreemen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lans for versioning, if updates are envisioned, will usually also be addressed during the planning proces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Ingest, identify and stor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Your data must be archived using a non-proprietary format to ensure that it may be read in the future.  The archive will work with you to ensure your data uses such a format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archive may ensure that your data are received intact using checksums or other techniqu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data archive will assign a unique identifier to your data, providing a stable way to reference it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 addition to the metadata you provide, the archive may generate data management metadata for your submission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Your data will be securely stored to ensure accessibility and its long term integrity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eserve data integrity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Your content must be protected against corruption and modification.  File checksums and other techniques help ensure that data files remain intact and unaltered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torage devices and media can fail due to equipment problems, and an entire location may be compromised by natural disaster.  A data archives usually maintains backup copies of data at an offsite location to ensure its holdings survive such even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rchives plan for and manage migration of data to new media, storage architectures and formats to avoid obsolescence and help prevent media failur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dvertise and provide acces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rchives use metadata to permit your data to be discovered, acquired and interpreted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 addition to employing in-house discovery and access tools, archives often publish metadata to various clearinghouses, portals and registries.  Such resources can make your data available to a much broader community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rchives support access requests to your data by packaging and delivering it, along with associated meta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data archive will control access to its holdings, enforcing any distribution restrictions or limitations specified in the submission agreement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Van den Eynden, V., Corti, L., Woollard, M., Bishop, L., &amp; Horton, L. (2011.). 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Managing and sharing data : best practices for researchers.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Colchester: University of Essex. UK Data Archive.  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www.</a:t>
            </a:r>
            <a:r>
              <a:rPr b="1" i="1" lang="en-US" sz="3400" spc="-1" strike="noStrike">
                <a:solidFill>
                  <a:srgbClr val="606060"/>
                </a:solidFill>
                <a:latin typeface="Helvetica Neue"/>
              </a:rPr>
              <a:t>data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-</a:t>
            </a:r>
            <a:r>
              <a:rPr b="1" i="1" lang="en-US" sz="3400" spc="-1" strike="noStrike">
                <a:solidFill>
                  <a:srgbClr val="606060"/>
                </a:solidFill>
                <a:latin typeface="Helvetica Neue"/>
              </a:rPr>
              <a:t>archive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.ac.</a:t>
            </a:r>
            <a:r>
              <a:rPr b="1" i="1" lang="en-US" sz="3400" spc="-1" strike="noStrike">
                <a:solidFill>
                  <a:srgbClr val="606060"/>
                </a:solidFill>
                <a:latin typeface="Helvetica Neue"/>
              </a:rPr>
              <a:t>uk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/media/2894/managingsharing.pdf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Reference Model for an Open Archival Information System (OAIS) http://public.ccsds.org/publications/archive/650x0b1.PDF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lanning for longer term perserv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ork with your archive early and ofte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ptions for archiving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ta transfer and submission agreemen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Intro to the OAIS Reference Mod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Responsible Use: Data restrictio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Jeff Arnfield</dc:creator>
  <dc:description/>
  <dc:language>en-US</dc:language>
  <cp:lastModifiedBy>Jeff Arnfield</cp:lastModifiedBy>
  <dcterms:modified xsi:type="dcterms:W3CDTF">2011-11-09T22:27:00Z</dcterms:modified>
  <cp:revision>68</cp:revision>
  <dc:subject/>
  <dc:title>ESIP Federation 101</dc:title>
</cp:coreProperties>
</file>